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2CD-954E-48A5-9A32-0191451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567-87E9-469C-BB95-2012A0A1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C8D-69EE-42E0-8B50-4CD0F37C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5A7-79BD-4E75-B2AA-3BABB0BC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3D2-5700-4214-BE61-F69D29D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0A7-069E-4452-92B8-4845AE09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7FD-A674-48FC-8231-58DDCE4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74C-AD1F-4A6A-A781-D81341E3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2CE-6144-4A80-8D1F-1CE8B161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204-AD40-467A-A43C-9A79F77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B31-EA6D-40CC-AB9A-DC0EFD8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D8D-D5E1-4DCF-AB07-5B3455E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4DA-9474-46B8-8900-B446C7B5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7537749JoSuN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أيها الملكُ السماوي المعزي روحُ الحق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الحاضرُ في كل مكان والماليءُ الكل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كنزُ الصالحاتِ ورازقُ الحياة هلم واسكن فينا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طهرنا من كلِّ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دنسٍ وخلص أيها الصالحُ نفوسَ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53:26Z</dcterms:created>
  <dc:creator>SUZANNE.MD</dc:creator>
  <dc:description/>
  <dc:language>en-US</dc:language>
  <cp:lastModifiedBy>USER</cp:lastModifiedBy>
  <dcterms:modified xsi:type="dcterms:W3CDTF">2003-02-07T13:06:47Z</dcterms:modified>
  <cp:revision>3</cp:revision>
  <dc:subject/>
  <dc:title>PowerPoint Presentation</dc:title>
</cp:coreProperties>
</file>